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33CAF-E87A-443F-A0E9-C209E28DA1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50EAB-131F-4F7C-9B74-1164E5E1E4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D289C-A3F8-4966-BD08-B19CCAC1A20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47AC2-1923-47E7-A7C2-4AC9261ECB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81B9C-5540-4494-A5B7-6AA0F17C60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1C562-261A-4D3B-AF62-76970A3A7B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32C66-3B46-46C0-B7B1-A570336EF6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EDE0A-490F-4DA4-BF10-9BCB9D708F2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047D8-C7F5-43D5-BCAD-D87D285E67B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2681A-477D-4EB5-908A-0392857BAC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29052-9FE4-4D06-8EDF-3C91F8EED7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975F5-1FDE-4781-8E7F-8E3345BDF01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1A360-927F-45C3-8926-A7A44985E93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F882B-E8C7-464D-AC80-53914D0BDA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C531A-8504-4ECF-AD57-C1E59D0D5F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7314-7918-4731-9BD6-E18DA513B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6FFE-64E9-4CFA-A22D-C62C943AF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FFCC-B3CE-4348-AF15-92BDC687D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4277-FDD7-4F63-8C7E-0E058BD61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620C4-BCC2-41B7-A0A1-598F6E1DB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B649A-F47E-486B-9C29-917F6DC62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0ECCA-237A-4A7D-AAC2-BDA6BA2A8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2312A-9D26-4F25-9DA6-7886688DB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BD900-876C-4DB0-B244-22459F67D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C6152-28C2-4567-A0F9-176C7815E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40374-C17E-494C-8308-5A931D4E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104B-B371-4038-9502-671F8C0C6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91F19-2683-45B3-82CE-15EA1CE4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6445F-3104-42A2-AA36-3D0FCEF4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84F83-2531-4D5B-82D4-540407A26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0F6EA-64DB-4409-AB29-DC5AACDFF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78423-5977-4E23-9E63-293BF2FCA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4B22-F7F3-4B8B-A900-2C5DE63F9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0455-31AF-4537-BBB2-B7C698F7E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95F1-D32E-438C-AE99-C67010D54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BFB4-1846-4DE2-95AC-26BD7FB4A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F074-BB4F-4C7E-B761-8050FA1F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3B5B-E3BE-4ED1-AAD2-A2DDF463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CD81-4E28-4D9D-97F5-D3145891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DC158-29D1-4A31-81A4-BAE35BC07F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151B6-426D-46BA-8CE0-40B865A0BD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304920" y="457200"/>
            <a:ext cx="5181480" cy="27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MoolBoran"/>
              </a:rPr>
              <a:t>Geoffrey Chaucer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oolBoran"/>
              </a:rPr>
              <a:t>(c. 1343 – 1400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8" descr="geoffrey_chaucer"/>
          <p:cNvPicPr/>
          <p:nvPr/>
        </p:nvPicPr>
        <p:blipFill>
          <a:blip r:embed="rId1"/>
          <a:stretch/>
        </p:blipFill>
        <p:spPr>
          <a:xfrm>
            <a:off x="5410080" y="380880"/>
            <a:ext cx="3057480" cy="39340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2"/>
          <p:cNvSpPr/>
          <p:nvPr/>
        </p:nvSpPr>
        <p:spPr>
          <a:xfrm>
            <a:off x="5486400" y="39625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olBoran"/>
              </a:rPr>
              <a:t>Image from  famouspoetsandpoems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685800" y="2286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olBoran"/>
              </a:rPr>
              <a:t>Types of Stor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914400" y="106668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MoolBor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olBoran"/>
              </a:rPr>
              <a:t>Bestiary – animals personified and characterized as hum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914400" y="23623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MoolBor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olBoran"/>
              </a:rPr>
              <a:t>Fabliaux – bawdy, humorous t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838080" y="327672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MoolBor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olBoran"/>
              </a:rPr>
              <a:t>Chivalric romance – elements of chivalric code; romantic liter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914400" y="480060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MoolBor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olBoran"/>
              </a:rPr>
              <a:t>Folk tale/Moral tale – explicit moral or point to a s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4"/>
          <p:cNvSpPr/>
          <p:nvPr/>
        </p:nvSpPr>
        <p:spPr>
          <a:xfrm>
            <a:off x="685800" y="30492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olBoran"/>
              </a:rPr>
              <a:t>Social Clas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838080" y="13716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MoolBor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olBoran"/>
              </a:rPr>
              <a:t>Nobility – Knight, Squire, Yeo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914400" y="22096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MoolBor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olBoran"/>
              </a:rPr>
              <a:t>Clerical – Monk, Friar, Prioress, Nun’s Pri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838080" y="29718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MoolBor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olBoran"/>
              </a:rPr>
              <a:t>Worker/Merchant/Middle Class – Merchant, Oxford Cleric, Sergeant at Law, Franklin, Guild Members, Wife of Ba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838080" y="4724280"/>
            <a:ext cx="80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MoolBor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olBoran"/>
              </a:rPr>
              <a:t>Lowest Class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olBor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MoolBoran"/>
              </a:rPr>
              <a:t>Marginal – Reeve, Miller, Pardoner, Summo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olBor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MoolBoran"/>
              </a:rPr>
              <a:t>Good people – Parson, Plow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4"/>
          <p:cNvSpPr/>
          <p:nvPr/>
        </p:nvSpPr>
        <p:spPr>
          <a:xfrm>
            <a:off x="838080" y="457200"/>
            <a:ext cx="746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olBoran"/>
              </a:rPr>
              <a:t>City:  Southwar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838080" y="160020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olBoran"/>
              </a:rPr>
              <a:t>Month:  Apri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838080" y="281952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olBoran"/>
              </a:rPr>
              <a:t>Inn:  Tabar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838080" y="4038480"/>
            <a:ext cx="7391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838080" y="411480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olBoran"/>
              </a:rPr>
              <a:t>Purpose:  Pilgrimage to the shrine of St. Thomas a Beck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762120" y="228600"/>
            <a:ext cx="78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olBoran"/>
              </a:rPr>
              <a:t>Pilgrimage – a religious journey made to a shrine or holy pla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838080" y="190512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olBoran"/>
              </a:rPr>
              <a:t>They are from all stations and stages of lif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838080" y="3352680"/>
            <a:ext cx="7848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olBoran"/>
              </a:rPr>
              <a:t>Traveling on horseback from London to Canterbury Cathedral to the shrine of Thomas a  Beck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838080" y="5486400"/>
            <a:ext cx="7620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olBoran"/>
              </a:rPr>
              <a:t>Canterbury is about 55 miles southeast of Londo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5" descr="united_kingdom_cornwall_map"/>
          <p:cNvPicPr/>
          <p:nvPr/>
        </p:nvPicPr>
        <p:blipFill>
          <a:blip r:embed="rId1"/>
          <a:stretch/>
        </p:blipFill>
        <p:spPr>
          <a:xfrm>
            <a:off x="838080" y="1371600"/>
            <a:ext cx="3267360" cy="39337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6"/>
          <p:cNvSpPr/>
          <p:nvPr/>
        </p:nvSpPr>
        <p:spPr>
          <a:xfrm>
            <a:off x="990720" y="5334120"/>
            <a:ext cx="32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mage from www.world-guides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8" descr="Canterbury-Cathedral"/>
          <p:cNvPicPr/>
          <p:nvPr/>
        </p:nvPicPr>
        <p:blipFill>
          <a:blip r:embed="rId2"/>
          <a:stretch/>
        </p:blipFill>
        <p:spPr>
          <a:xfrm>
            <a:off x="4724280" y="457200"/>
            <a:ext cx="3333960" cy="26956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9"/>
          <p:cNvSpPr/>
          <p:nvPr/>
        </p:nvSpPr>
        <p:spPr>
          <a:xfrm>
            <a:off x="4724280" y="3200400"/>
            <a:ext cx="32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mage from www.guyndo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11" descr="site_of_thomas_becket_shrine"/>
          <p:cNvPicPr/>
          <p:nvPr/>
        </p:nvPicPr>
        <p:blipFill>
          <a:blip r:embed="rId3"/>
          <a:stretch/>
        </p:blipFill>
        <p:spPr>
          <a:xfrm>
            <a:off x="4724280" y="3733920"/>
            <a:ext cx="3353040" cy="244944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13"/>
          <p:cNvSpPr/>
          <p:nvPr/>
        </p:nvSpPr>
        <p:spPr>
          <a:xfrm>
            <a:off x="4800600" y="6248520"/>
            <a:ext cx="32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mage from www.theducks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14"/>
          <p:cNvSpPr/>
          <p:nvPr/>
        </p:nvSpPr>
        <p:spPr>
          <a:xfrm>
            <a:off x="4800600" y="22860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olBoran"/>
              </a:rPr>
              <a:t>Canterbury Cathed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5"/>
          <p:cNvSpPr/>
          <p:nvPr/>
        </p:nvSpPr>
        <p:spPr>
          <a:xfrm>
            <a:off x="4800600" y="35053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olBoran"/>
              </a:rPr>
              <a:t>Shrine of Thomas a Be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62120" y="914040"/>
            <a:ext cx="8007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MoolBor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olBoran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MoolBoran"/>
              </a:rPr>
              <a:t>Father of English poetry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MoolBor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olBoran"/>
              </a:rPr>
              <a:t>Made the English language respectab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MoolBor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olBoran"/>
              </a:rPr>
              <a:t>Wrote in the </a:t>
            </a:r>
            <a:r>
              <a:rPr b="1" lang="en-US" sz="4000" spc="-1" strike="noStrike">
                <a:solidFill>
                  <a:srgbClr val="ffffff"/>
                </a:solidFill>
                <a:latin typeface="MoolBoran"/>
              </a:rPr>
              <a:t>vernacular</a:t>
            </a:r>
            <a:r>
              <a:rPr b="0" lang="en-US" sz="4000" spc="-1" strike="noStrike">
                <a:solidFill>
                  <a:srgbClr val="ffffff"/>
                </a:solidFill>
                <a:latin typeface="MoolBoran"/>
              </a:rPr>
              <a:t> – the everyday language spoken in Lond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838080" y="533520"/>
            <a:ext cx="769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MoolBor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olBoran"/>
              </a:rPr>
              <a:t>Born into a middle-class family in Lond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838080" y="1219320"/>
            <a:ext cx="7315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838080" y="1828800"/>
            <a:ext cx="7772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MoolBor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olBoran"/>
              </a:rPr>
              <a:t>Father – wine merchant; could provide Chaucer with some education; rising middle cla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838080" y="388620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MoolBor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olBoran"/>
              </a:rPr>
              <a:t>Chaucer became a pa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838080" y="4800600"/>
            <a:ext cx="7620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MoolBor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olBoran"/>
              </a:rPr>
              <a:t>Became attached to several noble patr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762120" y="380880"/>
            <a:ext cx="7696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MoolBor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olBoran"/>
              </a:rPr>
              <a:t>Captured during the Hundred Years’ War—king contributed to his rans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838080" y="190512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MoolBor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olBoran"/>
              </a:rPr>
              <a:t>Traveled to Italy; influenced by Dante, Petrarch, and Boccac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838080" y="358128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MoolBor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olBoran"/>
              </a:rPr>
              <a:t>Died October 25, 14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838080" y="464832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MoolBor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olBoran"/>
              </a:rPr>
              <a:t>First English writer to be buried in Poet’s Corner in Westminster Abb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838080" y="3808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olBoran"/>
              </a:rPr>
              <a:t>The Canterbury Ta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838080" y="167652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MoolBor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olBoran"/>
              </a:rPr>
              <a:t>Chaucer’s most famous wor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914400" y="2590920"/>
            <a:ext cx="731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MoolBor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olBoran"/>
              </a:rPr>
              <a:t>120 tales were planned; only 24 were complet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838080" y="419112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MoolBor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olBoran"/>
              </a:rPr>
              <a:t>Began in 1387; never finish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838080" y="22860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olBoran"/>
              </a:rPr>
              <a:t>Chaucer’s roles in </a:t>
            </a:r>
            <a:r>
              <a:rPr b="0" i="1" lang="en-US" sz="4000" spc="-1" strike="noStrike">
                <a:solidFill>
                  <a:srgbClr val="ffffff"/>
                </a:solidFill>
                <a:latin typeface="MoolBoran"/>
              </a:rPr>
              <a:t>The Canterbury Ta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685800" y="1905120"/>
            <a:ext cx="80010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MoolBor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olBoran"/>
              </a:rPr>
              <a:t>Poet/auth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MoolBor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olBoran"/>
              </a:rPr>
              <a:t>Narrat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MoolBor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olBoran"/>
              </a:rPr>
              <a:t>Pilgrim – his poem is interrupted because it is so bad (iron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533520" y="53352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olBoran"/>
              </a:rPr>
              <a:t>Characteristics of Chauc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762120" y="114300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MoolBor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olBoran"/>
              </a:rPr>
              <a:t>Reflects Middle Ages and Renaiss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838080" y="182880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MoolBor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olBoran"/>
              </a:rPr>
              <a:t>Very good at descri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838080" y="251460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MoolBor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olBoran"/>
              </a:rPr>
              <a:t>Contact with real life and fellow m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838080" y="3352680"/>
            <a:ext cx="739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MoolBor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olBoran"/>
              </a:rPr>
              <a:t>Very good insight into human n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838080" y="41148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MoolBor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olBoran"/>
              </a:rPr>
              <a:t>First English author to feel the influence of the Renaiss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838080" y="54864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MoolBor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olBoran"/>
              </a:rPr>
              <a:t>Reached out for new thoughts and id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838080" y="457200"/>
            <a:ext cx="74678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838080" y="22860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MoolBor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olBoran"/>
              </a:rPr>
              <a:t>Written in </a:t>
            </a:r>
            <a:r>
              <a:rPr b="1" lang="en-US" sz="2400" spc="-1" strike="noStrike">
                <a:solidFill>
                  <a:srgbClr val="ffffff"/>
                </a:solidFill>
                <a:latin typeface="MoolBoran"/>
              </a:rPr>
              <a:t>iambic pentameter</a:t>
            </a:r>
            <a:r>
              <a:rPr b="0" lang="en-US" sz="2400" spc="-1" strike="noStrike">
                <a:solidFill>
                  <a:srgbClr val="ffffff"/>
                </a:solidFill>
                <a:latin typeface="MoolBoran"/>
              </a:rPr>
              <a:t> – ten syllables (an unstressed syllable followed by a stressed syllable); closely matches the way English is spo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838080" y="45720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MoolBor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olBoran"/>
              </a:rPr>
              <a:t>Frame story – an introductory narrative within which one or more of the characters proceed to tell individual sto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838080" y="380988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MoolBor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olBoran"/>
              </a:rPr>
              <a:t>Heroic couplet – rhymed pairs of five-beat iambic 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838080" y="48006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MoolBor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olBoran"/>
              </a:rPr>
              <a:t>Satire – a kind of writing that ridicules human weakness, vice, or folly in order to bring about ref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838080" y="228600"/>
            <a:ext cx="7315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olBoran"/>
              </a:rPr>
              <a:t>Characterization – the process by which the writer reveals the personality of a charac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914400" y="1905120"/>
            <a:ext cx="7391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914400" y="13716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MoolBor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olBoran"/>
              </a:rPr>
              <a:t>How the character looks and dr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914400" y="21337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MoolBor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olBoran"/>
              </a:rPr>
              <a:t>How the character speaks and a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914400" y="27432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MoolBor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olBoran"/>
              </a:rPr>
              <a:t>What the character thinks and fe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914400" y="34290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MoolBor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olBoran"/>
              </a:rPr>
              <a:t>How others respond to the charac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838080" y="47242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olBoran"/>
              </a:rPr>
              <a:t>Characterization may be direct (author TELLS the reader what a character is like) or indirect (author SHOWS what the character is like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2T17:59:48Z</dcterms:created>
  <dc:creator>Trina</dc:creator>
  <dc:description/>
  <dc:language>en-US</dc:language>
  <cp:lastModifiedBy> </cp:lastModifiedBy>
  <dcterms:modified xsi:type="dcterms:W3CDTF">2009-02-10T14:13:22Z</dcterms:modified>
  <cp:revision>4</cp:revision>
  <dc:subject/>
  <dc:title>Slide 1</dc:title>
</cp:coreProperties>
</file>